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C947-A1B2-4916-8EDD-D884B91E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EB86-1454-4032-999A-9F88644A2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2C3-018D-4E1D-8662-914043DB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563-3CFA-488E-8937-42439C89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088-D559-454A-B700-CE9E117A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9E8-9CB0-4E1F-AF8B-55592A96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B22-8D89-4FAC-A2F3-CB7CBEC8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B45-0B45-4B7C-8025-D7B2B354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130-D98F-47BF-A8A8-E6BEF983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13A-F7A4-4D46-85E6-B41B9D92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EFE-1F72-4CC2-BE11-F9ACF9F5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CFC-BECE-483E-9066-48205989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73E-AA37-4831-A402-3A777B3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52C-65FB-49E2-BD3D-FD553342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E5D-BAD6-4336-A520-961FC52284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omputer Gaming, Culinary Arts, Dance, Dentistry, Elementary Education, Information Technology, Meteorology, Music Education, Orthodontics, Pharmacy, Photography, Physical Therap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7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Coordinator 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 advisors with planning, organizing, communications and task com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Open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1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 -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,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ing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glish (11 &amp; 12), US Gov, Calculus, Sciences, Languages, Computer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required to complete AP Exam (Ma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-Feb – Guidanc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End User</cp:lastModifiedBy>
  <dcterms:modified xsi:type="dcterms:W3CDTF">2011-08-15T21:28:39Z</dcterms:modified>
  <cp:revision>50</cp:revision>
  <dc:subject/>
  <dc:title>Berwick Area High School</dc:title>
</cp:coreProperties>
</file>